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65B-5545-4C7B-8130-17D2384E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3E3-6A50-49DA-85B9-F0F51AD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5E3-8B18-438B-90D2-140B7019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13F-4F3B-47EB-AD4F-9E9FAA35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B0B-DCCD-47F4-B605-692BDBDB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4E9-13F6-4233-83FC-3E006069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BA1-24E4-45F7-A6A5-F9CD1E5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D2C-859A-4862-A52F-1EC2734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5F1E-8573-4A3E-B5D4-C04CFF3C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131-53BF-4DD2-A9D4-1A843833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B23-237E-4517-9A34-F6E4F3A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597-6723-43FD-B491-8C2F4ADD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2887-894A-4292-9583-1CCB8347BE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 Tell the Good News”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Early Churc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11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6:7 – 8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35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E4A-00D8-48BB-8DF9-2272320AB4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39-44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ir hearts, they turned back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anted gods to go befor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ejecting Moses, they rejected God and turned to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them, “I will carry them away beyond Babyl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the tabernacle of w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brought with them into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A2A-6EAE-4E5A-94C2-F3A7BDFFD304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45-52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found favor with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nted a dwelling place for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built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God does not dwell in houses made by men – heaven is His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 said to the counci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stiff-necked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ircumcised in heart and 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just like your fa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killed the proph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304-5213-4A67-9C0E-7A07254047A1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YOU HAVE REJECTED THE RIGHTEOUS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you have murd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cut to the heart and gritted their teeth in 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, being full of the Holy Spirit, looked up into heaven and saw Jesus standing at the right hand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Martyrdom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52-56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21F-7351-4F13-838B-8B233D853419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eized Stephen and threw him out of the city where they stoned him to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neeled down and cried with a loud voice, “Lord, lay not this sin to their charg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tephen fell asl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young man Saul fully approved of what the mob had done to Step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Martyrdom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57-6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BD1-0101-4E36-9F05-7FC2445686EA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great persecution against the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iples were scattered abroad, except for the apos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ersecution Continue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8: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2AD-532B-433B-8B8C-5A739A3B9DE5}" type="slidenum">
              <a:t>14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Word of God Grew in Jerusalem</a:t>
            </a:r>
            <a:br>
              <a:rPr sz="36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6: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believers g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company of priests were obed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A37-F748-4B31-A30D-44DD977F2EB2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Conflict With The Jews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6:8-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person other than an apostle to perform mira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cian Jews began to debate Step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y could not resist him, they paid evil men to make accusations against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irred up the people, the elders, and the scribes, and brought him to the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’s face appeared as the face of an an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41E-B1D7-46FF-A694-F9E4019462E0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called Abraham to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id not inherit the land, but God promised it as a possession to his s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id that his descend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sojourn in a strange land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in bondage for 400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te of circumcision was a sign of God’s covenant with Abra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400" y="3429000"/>
            <a:ext cx="1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1-8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C61-45F9-4D8C-8617-21D2D0252444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9-1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riarchs, moved with jealous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ld their brother Joseph in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God’s hand, Joseph found favor with Pharaoh and became a ruler of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famine throughout the 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sent his sons to Egypt to buy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recognized his brothers and had his family come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136-D31B-4E00-8F54-376D89C5BB80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16-2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king came into power that knew not Jose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king dealt harshly with them causing them to cast out young children to 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lived in his father’s house three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he was cast out, Pharaoh’s daughter found him and raised him as he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81C-E2BC-48AC-AAA1-FCC8C04A6FF4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22-2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oses was 40 years old, he visited his kind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ing one of them mistreated, he avenged him by killing the Egypt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’ BRETHREN ACCUSED HIM OF BEING A JUDGE OV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fled to the land of Midian and had two 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1AB-5A1B-4171-8CE3-753CD054C325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30-3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40 years, an angel appeared to Moses in a burning b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Mo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d seen the hardship of Hi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d their gro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uld deliver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ade him ruler and deliver of His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29B-EDB6-44D5-BBD5-57BD2CF3362E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tephen’s Defen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cts 7:36-39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brought them out of Egypt and into a wilderness fo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 prophesi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A prophet shall the Lord your God raise up unto you of your brethren, like unto me; him shall ye hear.”  (Deut. 18: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gel spoke to Moses at Mt. Sinai, giving him “living wo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ancestors would NOT obey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922-E0CF-407F-8B70-65FCFB02C4D9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21:39:45Z</dcterms:created>
  <dc:creator>Ray Cooley</dc:creator>
  <dc:description/>
  <dc:language>en-US</dc:language>
  <cp:lastModifiedBy>Frank D Vines</cp:lastModifiedBy>
  <dcterms:modified xsi:type="dcterms:W3CDTF">2007-01-25T00:29:36Z</dcterms:modified>
  <cp:revision>42</cp:revision>
  <dc:subject/>
  <dc:title>Life of Christ, Part 2 In Perea</dc:title>
</cp:coreProperties>
</file>